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8.wmf" ContentType="image/x-wmf"/>
  <Override PartName="/ppt/media/image9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8D90757-83E8-49F9-A39D-F348857FE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andout is for the participants for their personal use.  We mentio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2 handouts deal with formative assessment for teachers of individual work.  We do not discuss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s use BLM 4.2.2  Observation Record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lso just a handout for teacher use in thei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lso a handout for teachers for thei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for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sible promp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aming and scale of axes (numbering months vs naming them, where to put January, degrees as the dependent variable in a trig graph), are all periodic graphs sinusoidal?, continuous vs discrete data and use of average values, cross-curricular links to explain observed results (effect of latitude, elevation, etc on pattern and links to amplitude/ mean line), importance of equality of vertical scale to make graphical comparisons across  different count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p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and scale of axes (numbering months vs. naming them, where to put January, degrees as the dependent variable in a trig gra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vs. discret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all periodic graphs sinusoid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averag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curricular links to explain observed results (effect of latitude, elevation, coastal c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56E-6E7B-4967-B232-A75AE126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184-5779-45DD-9300-45CACDBA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6BD-32C4-484F-B5B1-6E55A799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6EC-4372-4ED0-9F9B-30F96FE6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CEAD-975B-48F8-97B2-CE585E95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25B7-7FC7-4288-B597-467DE2E9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4DCB-8316-46A8-81D3-511D3474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55F1-3E48-411A-AA67-DEB47466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03F0-3B3D-48CE-9C58-C8603799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3F7B-661E-4345-B4F3-7A575663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B64E-F36E-4881-A7AB-FAB01243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2BA-B6D8-4E44-AFCE-8A783B90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66CD-88B4-4275-B023-256A1E2A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84C7-D076-41B0-91E2-BB10AF3A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3AF6-4CF0-48CA-8444-E940FF97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B233-37C6-48B6-B980-21185CF7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EE8E-8F10-4B46-A8CD-062702DC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265-BC0C-481C-B9EA-87A3B6FF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5F9-211B-4045-A753-179CD43E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25AB-1037-4121-800D-95B68730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B4E-0D10-4724-924D-9DB16C2F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680-F46E-4AAE-B542-3D6D9E97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BE6A-571C-4C52-B794-CFF9AB6F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D54-BE12-40E3-A530-1D08D137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7CA3-7A4A-4EAF-B112-C80F0BC235D4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A16C-D3F8-43BD-A12A-756DA32577F6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78E0-2383-43D3-B0E9-C35B0A06BB6E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6440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Quadratic and Trigonometric Relations</a:t>
            </a:r>
            <a:br>
              <a:rPr sz="4400"/>
            </a:b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Day 3 – </a:t>
            </a:r>
            <a:br>
              <a:rPr sz="4400"/>
            </a:b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Sessions 6 and 7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2444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om Chap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Judy Menda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Climate Task – Assessm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Criteria: Individual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25400" y="2214720"/>
            <a:ext cx="7694640" cy="242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823160" y="538488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World Climate Task – Observation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1560" y="2395440"/>
            <a:ext cx="7942320" cy="206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920000" y="5607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Action:  World Climate Task – Pairs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partner, compare and contrast your two periodic relationships.  Identify the similarities and differences, and explain why these ex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754760" y="5481720"/>
            <a:ext cx="8956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Climate Task – Assessm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Criteria:  Pairs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93720" y="2352600"/>
            <a:ext cx="7694640" cy="2152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823160" y="555156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orld Climate Task – Observation</a:t>
            </a:r>
            <a:endParaRPr b="0" lang="en-US" sz="38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95440" y="2467080"/>
            <a:ext cx="7954920" cy="1923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934400" y="5425920"/>
            <a:ext cx="89532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Action:  World Climate Task – Poster Wall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your graph and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lery walk with your partner; compare and contrast your graphs with those of your colleag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837560" y="555156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World Climate Tas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olidation:  Questions to consi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if the city was located in ________ part of the world, what would the graph look like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ould be the minimum amount of information that you would need to sketch a trigonometric model for a city in the world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961400" y="5468760"/>
            <a:ext cx="89532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World Climate Tas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ecisions might you make to support students who are strugg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864560" y="56484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e: Pai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a possible learning goal that aligns with this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i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629480" y="541332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Consolidation:  How do you know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one or more open consolidation questions that will tell you what the student kn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Mathematic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Idea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Goal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Mathematic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421400" y="5425920"/>
            <a:ext cx="89568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: Day 3 - PM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real world phenomenon that is periodic in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epen understanding of the Big Ideas, lesson goals and student strug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World Climate Tas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tens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aming and scale of axes (numbering months vs naming them, where to put January, degrees as the dependent variable in a trig gra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re all periodic graphs sinusoid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tinuous vs discrete data and use of averag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ross-curricular links to explain observed results (effect of latitude, elevation, etc on pattern and links to amplitude/ mean 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mportance of equality of vertical scale to make graphical comparisons across  different count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808760" y="5634000"/>
            <a:ext cx="8956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Pai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oster wall partner, create a different learning goal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rld Climate 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ssible student misconceptions and strategies for reme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 different expec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 different Big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84920" y="5592600"/>
            <a:ext cx="89568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Change it up -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dditions/changes would you make to the activity to support the achievement of this new learning go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99320" y="5468760"/>
            <a:ext cx="89532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Group Shar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808760" y="5425920"/>
            <a:ext cx="89568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ased on the Summer Institute, reflect on the following questions focusing on the prompts that are most meaningful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iven what I have learned today, what ideas are challenging my belief about teaching trigonometric functions?  Wh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new learning do I believe has helped me shift my practic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new ideas that I am prepared to implement upon my return to the classroom / board are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281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d469b"/>
                </a:solidFill>
                <a:latin typeface="Arial"/>
              </a:rPr>
              <a:t>Thank you!</a:t>
            </a:r>
            <a:br>
              <a:rPr sz="84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lease visit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r all files from CAMPPP!</a:t>
            </a:r>
            <a:br>
              <a:rPr sz="2400"/>
            </a:br>
            <a:br>
              <a:rPr sz="12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2600280"/>
            <a:ext cx="59403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3256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TIME FOR A BREAK – TAKE 15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048360" y="357336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lass of function do you think this graph repres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15960" y="3753000"/>
            <a:ext cx="14716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8640" y="3249720"/>
            <a:ext cx="23860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3280" y="3392640"/>
            <a:ext cx="31719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5805360"/>
            <a:ext cx="2592360" cy="459720"/>
          </a:xfrm>
          <a:prstGeom prst="rect">
            <a:avLst/>
          </a:prstGeom>
          <a:solidFill>
            <a:srgbClr val="3366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Spotlight!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3281400"/>
            <a:ext cx="509112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Think-Pair-Shar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big idea does this activity elic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In the Spotlight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Share:  Question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does the scaffolding in BLM 4.1 support students in engaging in higher-ordered thinking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y bother doing this type of activity anyway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Action:  World Climate Task – Individual Work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unique city in the world.  Mark your city on the globe using plast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ww.worldclimate.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retrieve the 24-hour average temperature for the city you se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materials provided, describe and analyze the periodic relationship.  Record your representation(s) and analysis on chart paper for sha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9640" y="6165720"/>
            <a:ext cx="25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920000" y="5689440"/>
            <a:ext cx="89532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Peel District School Board</cp:lastModifiedBy>
  <dcterms:modified xsi:type="dcterms:W3CDTF">2009-08-27T01:26:38Z</dcterms:modified>
  <cp:revision>128</cp:revision>
  <dc:subject/>
  <dc:title>Math GAINS 2008-09</dc:title>
</cp:coreProperties>
</file>